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10.gif" ContentType="image/gi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3AAC-FE03-4B91-9857-7D6870CD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53E-4EBA-483C-86E5-A73E61DF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DB5-D0D8-43C0-81D4-F443F820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D96D-0DC7-46C1-B0A5-BF84E1E96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4244-601A-46D9-821F-0DEE7BF0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56E0-C458-467E-AC11-9F454B2AA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249B5-E28E-48F2-94D2-406CB2C1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9F89-F82C-416C-8B71-25DDAF78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14F0-8EF2-438B-8BDE-51455946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6DD3-BEA8-4A7D-9C90-D41F9E97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5582-1AEE-41ED-AAA5-5ABEE7B4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041-9C19-4670-8F65-2AE5FEF4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F143-A42B-4D93-AEF4-B59CEEC9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BA10-D237-4583-8DB8-14B1B1E3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23FA-A3E4-48D0-8128-01ACE876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163F-60F2-435C-82AF-F8F092A7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964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524280" y="159984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9500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0964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524280" y="3966480"/>
            <a:ext cx="2870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FDDB-158F-40A6-8F98-729EFFDC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549-6900-4F3A-8ECB-2EAB8659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70FD-5866-4B95-B61F-24FB8D95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FF9-6B06-4C16-AD14-13BDDE3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95000" y="27756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B71-A5E7-431C-9FC9-3EED145B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D63-C9ED-4E7C-A51D-E5C8957A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63400" y="396648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7F9-5CB8-41A7-A848-35143D783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599840"/>
            <a:ext cx="4350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3966480"/>
            <a:ext cx="8915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3D11-7AA4-4E30-BC95-DB08BA72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75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7B8C-3312-4964-8814-FA11AE6A291B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905760" cy="6856560"/>
            <a:chOff x="0" y="0"/>
            <a:chExt cx="990576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90252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5960" y="0"/>
              <a:ext cx="964620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94440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944400" y="5678640"/>
              <a:ext cx="295812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822744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227440" y="5877000"/>
              <a:ext cx="167472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24040" y="6056280"/>
              <a:ext cx="367848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62240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6120" y="6418440"/>
              <a:ext cx="432324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88000" y="6141960"/>
              <a:ext cx="24141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50440" y="5002200"/>
              <a:ext cx="125172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865044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50440" y="4840200"/>
              <a:ext cx="125172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865044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45240" y="0"/>
              <a:ext cx="54324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47040" y="4289400"/>
              <a:ext cx="55512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419040" y="4108320"/>
              <a:ext cx="48312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19920" y="0"/>
              <a:ext cx="536400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675360" y="4022640"/>
              <a:ext cx="22680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51760" y="0"/>
              <a:ext cx="432324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98320" y="0"/>
              <a:ext cx="378000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758160" y="3927600"/>
              <a:ext cx="1440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636120" y="1349280"/>
              <a:ext cx="26604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82560" y="0"/>
              <a:ext cx="9853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05640" y="0"/>
              <a:ext cx="586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799560" y="1036800"/>
              <a:ext cx="10296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89208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895680" y="5529240"/>
              <a:ext cx="1008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89208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89208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30200" y="0"/>
              <a:ext cx="766548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11400" y="0"/>
              <a:ext cx="418428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92840" y="0"/>
              <a:ext cx="310284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771680" y="0"/>
              <a:ext cx="212364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72640" y="0"/>
              <a:ext cx="182304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66200" y="0"/>
              <a:ext cx="132948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902160" cy="2949480"/>
              <a:chOff x="0" y="2590920"/>
              <a:chExt cx="99021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631152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270120" y="4437000"/>
                <a:ext cx="363204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160020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1F68-3A6F-4ADD-9B82-3845E85AA2CF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9600" y="2060280"/>
            <a:ext cx="468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352520" y="1844640"/>
            <a:ext cx="2662200" cy="38498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28680" y="6380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5720" y="115920"/>
            <a:ext cx="442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los profesionales en Cs Ec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080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18640" y="119664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1240" y="2852640"/>
            <a:ext cx="3821400" cy="31114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arrollo y lanzamiento de produ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mpañas comer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udios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men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sicion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olítica de pre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e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so adecuado de los canales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875120" y="2349360"/>
            <a:ext cx="4310280" cy="3934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comercial para generar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08000" y="1289160"/>
            <a:ext cx="15645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8320" y="229716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62480" y="19162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627360" y="1773360"/>
            <a:ext cx="101448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94960" y="105228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1240" y="2492280"/>
            <a:ext cx="3821400" cy="33858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dentificación y retención de tale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lección de pers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es labor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gociación ante confli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vincul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igiene y segur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ministración de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arrollo de carr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escripción y análisis de 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75120" y="2087640"/>
            <a:ext cx="4310280" cy="3934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ducción, motivación y desarrollo de los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 y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99360" y="1197000"/>
            <a:ext cx="8391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RRH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665720" y="1844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62480" y="162864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94960" y="105228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41240" y="2708280"/>
            <a:ext cx="3821400" cy="256284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aneamiento estratégi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aneamiento y control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aneamiento económico y financi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anificación financiera de cort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álisis de escen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álisis de sensi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5120" y="2087640"/>
            <a:ext cx="4310280" cy="36601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nejo de finanzas corporativas y 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 y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32480" y="1197000"/>
            <a:ext cx="16668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Plane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65720" y="1844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62480" y="162864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894960" y="105228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41240" y="2708280"/>
            <a:ext cx="3821400" cy="201420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úsqueda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aluación de empre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ue dilig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egoci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ake o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usión cultu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875120" y="2087640"/>
            <a:ext cx="4310280" cy="4208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comercial para generar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nejo de finanzas corporativas y 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 y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85040" y="1197000"/>
            <a:ext cx="29649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usiones y adquis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665720" y="1844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62480" y="162864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894960" y="105228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2708280"/>
            <a:ext cx="3821400" cy="311148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laciones con entidades financier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laneamiento financi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rramientas financieras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ding financie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ecución de 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gu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Operaciones financieras de comercio exteri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75120" y="2087640"/>
            <a:ext cx="4310280" cy="42087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comercial para generar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nejo de finanzas corporativas y fuente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 y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411600" y="1197000"/>
            <a:ext cx="11592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665720" y="1844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62480" y="162864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94960" y="1052280"/>
            <a:ext cx="6396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1240" y="2708280"/>
            <a:ext cx="3821400" cy="2288520"/>
          </a:xfrm>
          <a:prstGeom prst="rect">
            <a:avLst/>
          </a:prstGeom>
          <a:noFill/>
          <a:ln w="9360">
            <a:solidFill>
              <a:srgbClr val="86d1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Diseño y análisis de 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arametrización de procesos y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ocimiento de aplicativos genér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dición de valor a los 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cesos interact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formación compa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75120" y="2708280"/>
            <a:ext cx="4310280" cy="283716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comercial para generar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 de negoc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 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 y 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473880" y="1197000"/>
            <a:ext cx="264492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Arial"/>
              </a:rPr>
              <a:t>Implementación ERP’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65720" y="184464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FUN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182920" y="1916280"/>
            <a:ext cx="36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COMPETENCIA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974880" y="1341360"/>
            <a:ext cx="503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5. Accesos a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05520" y="2205000"/>
            <a:ext cx="332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vi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sultoras y head hun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tac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Web labor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nivers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Instituciones profes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esentaciones espontán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974880" y="1268280"/>
            <a:ext cx="842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6. El desafío de la profesión ejercida de forma independ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12480" y="2008080"/>
            <a:ext cx="6186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s competencias son las mism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principal es la Generación de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No partir del producto sino del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ncontrar una ventaja competitiva y saber comunica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studiar adecuadamente el mercado y segmentar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ener una propuesta de valor para el cli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novarse permanente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recer y deleg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7605720" y="4149720"/>
            <a:ext cx="19447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146200" y="2133360"/>
            <a:ext cx="475956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1. El mercado lab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2. Actividades tradi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3. Nuevas competencias que se requ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51000" y="2492280"/>
            <a:ext cx="43290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874760" y="1773000"/>
            <a:ext cx="50310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4. Nuevos nichos labo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5. Accesos a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6. El desafío de la profesión ejercida de forma independ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51000" y="2133720"/>
            <a:ext cx="429084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4520" y="1268280"/>
            <a:ext cx="4289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. El mercado lab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63802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212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6080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359440" y="2152800"/>
            <a:ext cx="5336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mpleo antes de 1999, boom  empresas “.com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mpleo en la crisis 2001 y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Recuperación del mercado lab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Actual conformación del mercado labo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rofesiones má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Profesiones menos requerid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292880" y="620640"/>
            <a:ext cx="19782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74520" y="1268280"/>
            <a:ext cx="4289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1. El mercado labo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357280" y="2152800"/>
            <a:ext cx="6496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Desaparición del paradigma de amplia oferta y escasa dem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Excusa del ofertante (emplead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Ceguera del demandante (empleado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Los hábitos del mercado han cambi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Antes: búsqueda seguridad, trabajo duro, competitividad, acento en la estabi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Arial"/>
              </a:rPr>
              <a:t>Hoy: más pretensiones, mejorar balance vida laboral-vida personal, acento en el plan de carr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052640" y="1341360"/>
            <a:ext cx="50306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. Actividades tradi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26560" y="2152800"/>
            <a:ext cx="456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nálisis y emisión de estados con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quidación de sueldos y jor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udito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quidación de im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stos y Presupues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7683480" y="907920"/>
            <a:ext cx="11923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52640" y="1341360"/>
            <a:ext cx="503064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2. Actividades tradicion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35400" y="2152800"/>
            <a:ext cx="5871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Se recorta el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invasión de otras profesiones en actividades que originalmente estaban reservadas a los profesionales en ciencias económica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6d1ec"/>
                </a:solidFill>
                <a:latin typeface="Arial"/>
              </a:rPr>
              <a:t>Fusiones y adquisi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6d1ec"/>
                </a:solidFill>
                <a:latin typeface="Arial"/>
              </a:rPr>
              <a:t>Finanzas corpor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6d1ec"/>
                </a:solidFill>
                <a:latin typeface="Arial"/>
              </a:rPr>
              <a:t>Análisis y mejora de proc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6d1ec"/>
                </a:solidFill>
                <a:latin typeface="Arial"/>
              </a:rPr>
              <a:t>Sistemas infor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86d1e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86d1ec"/>
                </a:solidFill>
                <a:latin typeface="Arial"/>
              </a:rPr>
              <a:t>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usas, orígenes, consecuenc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95320" y="1125000"/>
            <a:ext cx="79581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3. Nuevas competencias que se requ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53480" y="2368440"/>
            <a:ext cx="7407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comercial para generar negocios y 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Manejo de finanzas corporativas y herramientas de financi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onducción, motivación y desarrollo de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Capacidad de cuantificación de vari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estratégica de largo pla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Visión glob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abilidades comunicaci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881840" y="692280"/>
            <a:ext cx="2024280" cy="177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95320" y="1125000"/>
            <a:ext cx="79581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3. Nuevas competencias que se requi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8680" y="6380280"/>
            <a:ext cx="199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086760" y="6308640"/>
            <a:ext cx="6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314880" y="6308640"/>
            <a:ext cx="56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Prohibida su reproducción total o parcial-Ley Propiedad Intelectu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7760" y="115920"/>
            <a:ext cx="520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Oportunidades laborales para el profesional en Ciencias Económic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745040" y="115920"/>
            <a:ext cx="20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Arial"/>
              </a:rPr>
              <a:t>CPCECABA Sept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6308640"/>
            <a:ext cx="257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400" spc="-1" strike="noStrike">
                <a:solidFill>
                  <a:srgbClr val="ffffff"/>
                </a:solidFill>
                <a:latin typeface="Times New Roman"/>
              </a:rPr>
              <a:t>Dr. Luis Perez van Morle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01640" y="2368440"/>
            <a:ext cx="6217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sponsabilidad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oma de decisiones ante presión y falta de in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roactiv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Flexibilidad de pensamiento y oper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Trabajo en equip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ideraz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9T03:42:57Z</dcterms:created>
  <dc:creator>Luis Vanmorlegan</dc:creator>
  <dc:description/>
  <dc:language>en-US</dc:language>
  <cp:lastModifiedBy>Thelma Karen Stretcu</cp:lastModifiedBy>
  <dcterms:modified xsi:type="dcterms:W3CDTF">2006-09-14T14:39:31Z</dcterms:modified>
  <cp:revision>11</cp:revision>
  <dc:subject/>
  <dc:title>RRHH y Estrategia de Negoci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